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35.wmf" ContentType="image/x-wmf"/>
  <Override PartName="/ppt/media/image36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.png" ContentType="image/png"/>
  <Override PartName="/ppt/media/image50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5.png" ContentType="image/png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D0D-7943-4A76-BC59-B159DFFA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4C0-0F56-4EA6-946A-707B5BBF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52D-4233-4425-8FDB-5EE6AB5B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F42-A313-456F-8BDD-3D17CF13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67E-1608-464F-B5C6-35709BD2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1EC-B85C-49A2-88BA-8BC3150E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132-C23F-46E2-8451-535EC0D2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765-C76C-4BD0-92FD-71A4F45E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DC2-510C-4F69-A44B-DD9CD7CC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E71-6AF2-4B29-8C1F-61EA8C7C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224-B3DF-4DA8-810D-2FDE16D0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2DA-0499-4FC0-BF3D-79CFE81A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1F2C-056E-4154-AEEC-42D23435A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2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53.wmf"/><Relationship Id="rId24" Type="http://schemas.openxmlformats.org/officeDocument/2006/relationships/hyperlink" Target="file:///tmp/home/.config/libreoffice/4/user/gallery/TingBell3.wav" TargetMode="External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1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2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3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1.wmf"/><Relationship Id="rId12" Type="http://schemas.openxmlformats.org/officeDocument/2006/relationships/image" Target="../media/image22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29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30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32.wmf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36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4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4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42.wm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01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adratic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400" y="3857760"/>
            <a:ext cx="7732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8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 M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09640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93840" y="618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ick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543384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8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3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>
            <a:hlinkClick r:id="" action="ppaction://hlinkshowjump?jump=previousslide"/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8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ic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90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9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86720" y="321624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50482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21560" y="45975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0760" y="1017360"/>
            <a:ext cx="36144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that the line with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intersect the parab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eq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17880" y="1036800"/>
          <a:ext cx="1251000" cy="40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17880" y="1036800"/>
                    <a:ext cx="12510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90880" y="1805040"/>
          <a:ext cx="1868400" cy="461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90880" y="1805040"/>
                    <a:ext cx="18684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49760" y="2583000"/>
            <a:ext cx="2623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two equations 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51560" y="3284640"/>
            <a:ext cx="1913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discri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49400" y="3933720"/>
            <a:ext cx="2498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w discriminant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51920" y="4581360"/>
            <a:ext cx="1512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real ro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94640" y="472752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0280" y="932760"/>
            <a:ext cx="6657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                                            in the form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304920"/>
                <a:tab algn="l" pos="609480"/>
                <a:tab algn="l" pos="990720"/>
                <a:tab algn="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 or otherwise sketch the graph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71600" y="884160"/>
          <a:ext cx="2424240" cy="46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884160"/>
                    <a:ext cx="24242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423040" y="841320"/>
          <a:ext cx="1604880" cy="604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23040" y="841320"/>
                    <a:ext cx="1604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187960" y="1403280"/>
          <a:ext cx="1297080" cy="446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87960" y="1403280"/>
                    <a:ext cx="1297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09120" y="2408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95440" y="2379600"/>
          <a:ext cx="2471760" cy="488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95440" y="2379600"/>
                    <a:ext cx="24717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08400" y="32846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560" y="323676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his is graph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71840" y="3182760"/>
          <a:ext cx="895320" cy="489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71840" y="3182760"/>
                    <a:ext cx="8953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696920" y="323676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ved 3 places to left and 2 units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94520" y="390672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minimum t.p. at  (-3, 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3160" y="390672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y-intercept at (0,  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940440" y="519264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74960" y="1006560"/>
          <a:ext cx="310500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74960" y="1006560"/>
                    <a:ext cx="31050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38400" y="1045080"/>
            <a:ext cx="42238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that the equatio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real roots for all integer value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4760" y="222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Use discri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59120" y="2203560"/>
          <a:ext cx="434664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59120" y="2203560"/>
                    <a:ext cx="4346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87240" y="2871720"/>
          <a:ext cx="4718160" cy="52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7240" y="2871720"/>
                    <a:ext cx="471816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781280" y="3670200"/>
          <a:ext cx="253044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81280" y="3670200"/>
                    <a:ext cx="25304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148360" y="3625920"/>
          <a:ext cx="1660320" cy="47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3625920"/>
                    <a:ext cx="16603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4680" y="4264200"/>
            <a:ext cx="53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nsider when this is greater than or equal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4760" y="486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ketch grap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95520" y="488304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uts x axis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371840" y="4791240"/>
          <a:ext cx="1992600" cy="606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71840" y="4791240"/>
                    <a:ext cx="199260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285560" y="541656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ence equation has real roots for all integer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649920" y="58896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3760" y="876240"/>
            <a:ext cx="4521600" cy="2177640"/>
            <a:chOff x="383760" y="876240"/>
            <a:chExt cx="4521600" cy="2177640"/>
          </a:xfrm>
        </p:grpSpPr>
        <p:sp>
          <p:nvSpPr>
            <p:cNvPr id="156" name=""/>
            <p:cNvSpPr/>
            <p:nvPr/>
          </p:nvSpPr>
          <p:spPr>
            <a:xfrm>
              <a:off x="383760" y="876240"/>
              <a:ext cx="4227120" cy="21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diagram shows a sketch of a parabo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sing through (–1, 0), (0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 and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0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)  Show that the equation of the parabola 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)  For what value of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will the line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 a tangent to this curve?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1349280" y="1949400"/>
            <a:ext cx="1728720" cy="314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349280" y="1949400"/>
                      <a:ext cx="172872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3873600" y="2352600"/>
            <a:ext cx="1031760" cy="311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73600" y="2352600"/>
                      <a:ext cx="103176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61" name="" descr=""/>
          <p:cNvPicPr/>
          <p:nvPr/>
        </p:nvPicPr>
        <p:blipFill>
          <a:blip r:embed="rId12"/>
          <a:stretch/>
        </p:blipFill>
        <p:spPr>
          <a:xfrm>
            <a:off x="5900760" y="828720"/>
            <a:ext cx="2814480" cy="2070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5280" y="3151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35080" y="3181320"/>
          <a:ext cx="218124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5080" y="3181320"/>
                    <a:ext cx="21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3442680" y="3165480"/>
            <a:ext cx="2698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oint (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489720" y="3151080"/>
          <a:ext cx="20653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89720" y="3151080"/>
                    <a:ext cx="20653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176480" y="3718080"/>
          <a:ext cx="1058760" cy="382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76480" y="3718080"/>
                    <a:ext cx="105876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735280" y="3714840"/>
          <a:ext cx="824040" cy="336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35280" y="3714840"/>
                    <a:ext cx="8240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051440" y="3684600"/>
          <a:ext cx="2181240" cy="38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51440" y="3684600"/>
                    <a:ext cx="21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946080" y="4165560"/>
          <a:ext cx="2914560" cy="434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46080" y="4165560"/>
                    <a:ext cx="29145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459320" y="4162320"/>
          <a:ext cx="2884320" cy="473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59320" y="4162320"/>
                    <a:ext cx="28843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84560" y="47242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751280"/>
            <a:ext cx="2608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taneous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73680" y="4694400"/>
          <a:ext cx="2836800" cy="473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73680" y="4694400"/>
                    <a:ext cx="28368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20600" y="5272200"/>
          <a:ext cx="1978200" cy="473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020600" y="5272200"/>
                    <a:ext cx="19782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194640" y="5300640"/>
            <a:ext cx="3256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criminant = 0 for tan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732720" y="5305320"/>
          <a:ext cx="714240" cy="378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732720" y="5305320"/>
                    <a:ext cx="7142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66840" y="1037160"/>
            <a:ext cx="81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                                     , express             in the for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576840" y="19558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33360" y="1006560"/>
          <a:ext cx="2256120" cy="455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33360" y="1006560"/>
                    <a:ext cx="22561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471920" y="1065240"/>
          <a:ext cx="690480" cy="403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71920" y="1065240"/>
                    <a:ext cx="690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488280" y="925560"/>
          <a:ext cx="1581120" cy="595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488280" y="925560"/>
                    <a:ext cx="15811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681280" y="2017800"/>
          <a:ext cx="2381400" cy="455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81280" y="2017800"/>
                    <a:ext cx="2381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894200" y="43941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4640" y="980280"/>
            <a:ext cx="85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what value of  k  does the equation                                        have equal root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484520" y="977760"/>
          <a:ext cx="2327400" cy="433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84520" y="977760"/>
                    <a:ext cx="2327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459160" y="1798560"/>
          <a:ext cx="2938320" cy="405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59160" y="1798560"/>
                    <a:ext cx="293832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486000" y="1857240"/>
            <a:ext cx="15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471760" y="2467080"/>
          <a:ext cx="2913120" cy="455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71760" y="2467080"/>
                    <a:ext cx="29131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927520" y="3192480"/>
          <a:ext cx="2000160" cy="353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27520" y="3192480"/>
                    <a:ext cx="20001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508200" y="3862440"/>
          <a:ext cx="809640" cy="353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508200" y="3862440"/>
                    <a:ext cx="8096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533760" y="4367160"/>
          <a:ext cx="758880" cy="784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533760" y="4367160"/>
                    <a:ext cx="7588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39920" y="3024360"/>
            <a:ext cx="18525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qual ro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imina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 in thi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7450200" y="587232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86480" y="63435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endshow"/>
          </p:cNvPr>
          <p:cNvSpPr/>
          <p:nvPr/>
        </p:nvSpPr>
        <p:spPr>
          <a:xfrm>
            <a:off x="4313160" y="6122880"/>
            <a:ext cx="531720" cy="5320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5820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2312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Theory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5:49Z</dcterms:modified>
  <cp:revision>304</cp:revision>
  <dc:subject/>
  <dc:title>PowerPoint Presentation</dc:title>
</cp:coreProperties>
</file>